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jpeg" ContentType="image/jpeg"/>
  <Override PartName="/ppt/media/image23.png" ContentType="image/png"/>
  <Override PartName="/ppt/media/image20.gif" ContentType="image/gif"/>
  <Override PartName="/ppt/media/image13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70A7-C891-49F0-BF14-AC2CDCB7C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B3E3-C018-4D6D-909E-A7E5BE57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3F04A5-EB4F-4844-93AE-FB4584F7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2D7E99-8B9C-4EAC-811E-A5DEEEA0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A8DEA0-ABF8-4512-8802-B211AE8B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4A0FC6-60D0-4CAC-8D75-2B05830C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A0E3EE-C3D6-441B-B181-B9F5CC14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1DF205-078F-4C99-B772-F2E00EB8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E76DB5-628B-42D5-8AAA-BEFB8EF2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CE4B07-6EAD-42C0-ACF8-93F46887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45DE1D-226A-4550-A05C-C03C31571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A2253-BA3B-4383-92BB-E23B388921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E5F9-9E98-4C02-A979-5A16AF73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1B9D6-888F-47F8-A3B4-29C16F21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F6D1-9B5B-4C75-B6FF-19C67498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478E9-DC41-46FE-97C0-0AEA907E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70F38-3CE7-451A-962F-91F4D2D7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D3137-06E3-419A-84D7-3CD42219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E7FC5-FCF4-4FAB-A629-C659CEF8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B2063-6A80-4B54-AB39-F8216E2F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204C9-CD31-41DA-829A-40141406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26B89-ECB1-4892-8625-8A1477AA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D0DB8-2C05-4533-A191-854DD7C3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290A-D959-40DC-B9BE-4250572A7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3F015-8559-41EC-BFE3-5A8DE9C0DF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8BAB8-26B1-4691-A6BB-24F2CBAAC5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DDB52D-7F87-47EB-A9B0-9597FFA6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895C00-39A1-4A13-8351-342C798B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9C0D3F-3B5C-45BA-9B95-CC3C80CB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C6E86-DC1A-41BE-93E3-E4FCF0C5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67E59A-B74A-4DFA-9993-987C6879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4A6D17-ECA1-4665-A7B9-61111040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3D0E66-9C1B-43B0-9FC5-26656FA0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E3343D-5327-4552-B1FB-41D7A588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8BBCA-6D2A-41D9-B90E-0B023181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D89411-0F4C-4AE0-821C-02D5A219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0A4A2B-C485-4EE4-8D00-817F5F6F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55F444-1841-4CAD-82F5-E229A5342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F0D6E-3A9B-4229-8C56-B2BCDE894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23EE7-DC13-4CDA-B367-CFA1040B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30664-EFB6-4C99-A2BA-029C5EDD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2A987-574F-41DE-AFDA-C3135D93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E6289-4F30-4D9C-94E3-E219FE2B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84B30-2DD2-4D6D-90A8-F2370FFC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D861D-F01C-4468-B0B7-CE853C5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10990-2E24-4057-8611-3E94A01A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A802B-95CC-46F4-A050-A819F739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C0F1A-47F0-4EA0-81C0-11798439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125BD-C368-4E19-AC9F-CF0E4130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88638-47D6-4233-866F-71114F1F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C08BD-7077-404A-9D18-5937534741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63F08-FDA3-47AE-9FF2-A30E7F2519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CAF47-FC93-4E9B-8097-9AC87534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7A52D-B527-4469-9F19-A470CD68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9EF10-50E5-4A46-AD27-6CCDF864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C6A17-F10A-4131-A7BB-CC7D1326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583E7-6393-4728-B983-DA4316C4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8528D-2ACB-4976-A229-1FD7DD9A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23DDA-3692-43F5-B1A4-CFE9DDED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B4546-FA81-49AD-9570-B2B38813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14843-4E9B-4ECE-92F2-C5A20150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C917B-96AD-4EC6-BF8A-B67509FB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DC049-5369-4074-A13E-65403FD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149A8-FA92-456B-9550-7FE50D1F7B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7B63C-5520-4B8D-BB82-89C8F7B5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B1F0E-AA7F-416F-8C60-94110C33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57AF5-D11B-4A0B-9DDE-680AC5F7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0B5CD-8F42-46EA-BBFB-4D35A506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1A334-AB89-4795-B31B-81BB3E3D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9A5CC-8503-43DA-905A-87F2823B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68923-B2F4-4E4A-849F-B368C7B6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C325B-CACF-42D3-B39C-4AE773AB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31A96-0E95-4B85-AA23-D520224F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5BA81-D2F7-439A-B340-1793728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27F01-878F-4E4B-8450-DCA92FAB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1F9A8-2054-46F0-89AD-EBBB9221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6C6D1-51C2-45E0-8596-5EFA9595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0E2A5-25D0-4F77-ACF8-F74CE02C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7BF14-3258-43C9-9C5F-36ABC5E5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37011-44A1-4379-866C-194F1BC0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139B2-0259-452B-9462-706758CF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6F357-52B7-4C68-90E9-16681C43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35DA8-05A5-4727-B83F-0A5C5734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A7BCF-F419-4C13-A410-C6CF2C45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ED658-BE2C-4AAB-9D74-007B422B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62B15-BC1F-4291-95E9-28FC239E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039F3-A767-4F07-B692-DB730E1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C763D-01F5-4D93-BA26-A08BE0F5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88E7A-5327-40C2-B0B5-A67E6984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4DA14-8707-4234-AD21-80891930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2979F-BB5C-4DFC-904D-092E5F9B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86B7A-974F-423A-AEFD-4131E322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6A9AA-7DDE-42C6-B24C-3440B412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D23A1-48D6-4DA1-810E-A3E6BED2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69F3A-D2B3-47E3-9C7D-96193E9B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79091-7C17-4B91-8329-ACB70907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6F99D-4900-4C93-867E-B7B292DB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B9AA8-3D44-45B8-AD38-7446B264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E46AE-3864-4F9E-8B74-32934EF6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D1C25-967D-4397-B514-16B07AA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449C3-C277-4BFE-93E4-4E19146B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DDDAC-C5DC-47F0-8253-F253B8A8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8E4EE-E994-4E9D-AA09-0AC9D78B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3DC8E-F61B-4838-9859-A55D1730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E3B60-0A95-4B4A-AD2A-12436FF2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A0497-0E7B-4492-AB2D-AB9CFA74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22C40-8907-46B3-965C-6606F4F0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72114-E5FD-40E2-BF0E-0C52535F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355A1-2F07-4093-A79C-266A26B8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12A49-9362-4F78-8EBC-28EE592A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203D3-4AF7-4D02-85B4-5429FC6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309C-4EC0-49E1-AA77-AD0C9D89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231CD-626F-4D88-B0FB-7EF7354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523B7-DAC3-4CAD-8C22-CFE5D866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92422-B1E4-4460-B4D5-8A36C54E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95D18-2265-4E28-9EEE-814707E4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92EFD-5A50-4E50-A61E-6F104EAF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AD93C-EBC2-41D0-9714-68549BAD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C9676-433C-4AA6-926A-BD8B56CD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B7619-56EC-4797-B61D-4E6382FD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7EF06-32E8-4036-BF19-89CD1D5B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7154D-A3F4-45C2-801E-77E26161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7D165-A1A6-4985-A54E-DFA2479B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2898A-65F9-4307-AE33-669D474A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C453C-A5A8-4B6A-B5D7-A2289FDF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ED7F2-04F9-45D1-A8A0-DFC1C67D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5F0F0-50A9-4641-A131-E8F3635A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FCDF6-43F5-4505-9622-2EACA07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40BB3-451C-4586-9B03-60364C8B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41EDA-8A26-4D2F-8D80-263AF404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EEF01-BCE4-4308-87DC-99D67505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3C7A9-7FEF-429A-A573-541DEA1F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92E07-4E7D-4454-BB84-1F8272CA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74935-55A3-465A-9B25-13BA386F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7C7DB-9CE9-4850-B249-83DA462F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54C1A-CED6-476D-9505-EF15A4B8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145370-0CEE-4D7E-87D7-5A41A0D2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5C456-1694-46E1-9056-AB8BAD63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4FA4B-593C-4987-A10F-B1D4EF7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B4649-528F-4B30-9A11-2EC3DE2C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86E44-72D6-4A26-A9BF-67FD2E96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B2058-B910-4164-BB8D-8A9E05ED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BCC70-0A65-41DF-B9FA-BF48430C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4D74B-0181-4B25-99D0-6D881CAE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725EC-EF0F-40F3-8069-9A0C8786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F095A-5D97-4039-BBDA-9BB2C0CB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1628A-5256-4DFE-8810-6A281F2F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F194C-96CC-43DA-96C4-5D784F12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6B616-2589-45B4-BF50-B15AF713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7406F-D9AD-4047-BFDA-BA64DACC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21B5B-86AD-447A-B989-9C1B355C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C8B21-5CDA-4ECA-8E29-F08D89F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4AF275-6471-4F38-9B94-AB206B1E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19DF53-E6F9-4E4E-824D-1978EB63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EA88AC-0826-46A7-8030-47D6DF99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AB78B-9A9F-44CF-8FAD-A4534135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2E87E-F093-496F-A896-75ABC424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7C835-4EAC-4C51-B82B-6363AC94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B837C-3FD5-4EE9-9A4F-7137A040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14D44-50B5-46D2-B678-7BBBB1C0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17B13-3A20-4664-B44D-ACC870A7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90E40-4B84-4544-A5E4-3EB94FBB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4F7C0-A471-43D9-BC8B-8E20FD51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12DD4-6B7F-4FFC-9ACC-6A4E99D5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586C41-E8A9-4400-8B1F-FD98B2B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2EB1A-E6D7-4C23-BF71-1E701BCC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E9E9E7-D2D7-415F-AF9F-5D23CC3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0D078-4C47-49FA-A894-35D8B088F7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57EEC-719B-45A3-A2F6-895EB6E5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B2E9E-24FA-4D99-86C0-CA81B8B5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711E46-44EA-4727-AD5D-8EEDD1F5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3B1D53-71D5-4E8E-BFF2-7DF5EF49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6DEF6D-7997-4330-8FB5-73668694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2457B8-8E5A-4518-8D03-B166D2DF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E443A-B4FF-47D7-A50A-DC5D706A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2F5C37-568D-4CB3-BA6B-89F56F8F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9DE1A-8F0B-4E98-B648-2FD49780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A86E7E-A49D-4BA8-8D94-B31AB90D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410183-3D69-4D80-8783-0388AFB6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AAA965-1259-4D3F-828E-2F09BD0A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45ED15-C239-4EFD-9A05-7D6554C6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10338-0ABB-41C7-A2B7-777080A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7CB92-A584-408A-8D93-5EA380FA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783E9-85EF-4FDB-B418-FFA0321C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EA1E0-08C3-450E-A95B-25FAE935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4B985D-A0D7-4D94-A546-0B2B4922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05D094-B26D-4AFA-B03F-02173ABB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E188B-D512-4C30-A80C-71B50983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D84C4-9B6E-47E4-BAC7-7AABAA26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7DDC5C-494C-4D12-9DEB-05931D64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26241E-2356-418E-BAFC-ECC07019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DEACF-0C70-4060-AAF3-A514B17E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32157F-D9FA-40CA-BACA-0BDCC34E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394776-931A-419E-9F3E-9277B067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E3ECD-55B0-4B5F-89C6-B8F4487A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B4611-01C4-4ACB-8BF4-B6DF0863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5DF9BE-A197-4882-843B-0144CBC0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59962-1175-4BFC-8E89-7EC49503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5F981-C8F9-4003-97FC-D1F33EA6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03A3F6-7965-495D-918A-E6DB26E7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FEBA0-3047-43FC-8A8F-E616A213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2FA78-762A-4CE4-8A98-D52D8B28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9DE888-891C-469A-8DDA-5B89BFAC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CB740-6962-4424-9AA4-6D26F780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97D5EC-DB7B-4111-9A29-53C4DB83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21EB43-65CD-45FF-93C2-34D1339D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7E69C-20BE-4251-8F63-AA45117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374E1D-9795-4729-BCCA-C25D2C1C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043AED-811A-4F40-A299-4C327A80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E94799-7761-44D1-8BB8-3B3398CC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D54D4C-0D39-448E-ACE2-6E0E0811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E33D-D579-4081-A987-8358613B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052122-5601-4D85-A869-F0AF8E6B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CEE95B-14A6-4514-94DF-7B26E3F3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6B6ED-D061-4D50-B401-5245B69F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FC9E03-00EF-4FAA-BC3C-65D00379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745D34-EFEF-4272-A7B0-5D95CBCE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3C78FB-9E56-4664-BBF2-257BE538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38482-5477-4276-9788-C88AD1AF2A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0CC4-4CBA-40A2-A02B-006195850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F96C-4015-4171-9FD4-07B69CBA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8FCA-6B5B-4623-BDE4-7FD0033B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12F7-F3D2-4C74-B0E5-14D64B63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FE78-6450-4BE5-A4A3-EFC075F7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EB37-2CB9-4495-AD54-F3C05727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83C4-8B45-48E6-8DE4-7B32E433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1B5A-D69C-48D7-93E6-C4CC731B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6596-0A93-475C-A63C-A74455F5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4B11-F0D3-4B3A-9E31-F20ED62B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0B1D-E4CB-4EAA-9D15-E4B913F0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C339-0C3D-4057-AC4A-3FD7FB7C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F57C3-3144-4518-8D83-955BD08E1D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39229-2AA9-4135-BF4F-7E96F7FAD5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DADA-ADC3-4B9E-84DF-BF22B137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FE187-3123-40F2-9971-AEE32D7F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41327-2436-4E78-A835-EA2EDB3D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D7E40-27AC-4E8E-B38E-5C358F55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04254-7396-477A-BDEB-6DE539F0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86E26-7A40-4885-9E6D-2113A9ED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3376C-0477-48B4-B51B-FDB37504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A3809F-4163-468B-88CE-A602B149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ACAEA-B309-4A14-AB3B-692376AC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8F739-14E0-48B1-8E70-8950E1C4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7E9344-8DEB-4C5E-8097-0F5A94CA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A568-0B56-437F-A26A-35A4E365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EDF5A-9456-49BF-9400-C2F7377FCF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AB3825-EED6-4C08-B028-E6D4FF49F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809F19-FC6C-4959-93ED-93E5EBF7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47713F-4DFF-4420-880B-947A7C42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2C701A-4669-44F0-BD45-FCB98AE7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353659-35D3-415F-9A1B-5960DD03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F4D748-B722-428C-A010-A3542AFC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ABBB87-76B5-41BF-8899-2E3AC41C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C3C929-3BA1-4C1D-9610-B8065120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626E4D-D9CD-4A34-8F41-37AE8ECF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DE9F-B5CE-40A0-89BF-720B1181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B62D45-51D8-4122-8B8A-30B79DF7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5CD695-AC2A-4DF4-8FD6-C4712D4B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EF9C4-DF1D-40B5-B227-9E796EFE5E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148A0-69F9-458A-833B-072383829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725B5-146A-4387-A30D-C1D12145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56B0-52B6-45C4-BDB6-E3830C34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D3117-0136-4C03-88AF-B1076D75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C019-55C9-43FB-9B2D-A95C3838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8FC0-418C-4C0F-9FF1-53044C12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3DD1D-197C-4365-9D3C-F0CB1157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9D12-8ECE-4CB6-98F2-E63EC2F5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95D73-B4E5-4981-81C6-C10EEAAE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26CF0-E00F-4D4D-AAED-CF3CF395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98CE5-8A59-48DB-8BAF-FB292FDE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67C6D-1125-47CB-BEE8-34BB816D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AE2F9-0105-437E-A71D-8576B79362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DD7FA-AC08-4EC6-AD75-7A3F7F0E8A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22574-568D-42ED-BDFC-3AAA5F45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44C157-2719-4C50-9EBE-0B8520B2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0068D-6D3B-40AE-8711-20D5C15E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D74BD-4D08-46D6-8100-A9ADAC12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2037-4B02-45EF-BB1C-EB04960F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F7F79-CDCF-4034-B049-C9D40F04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90789-1AC5-449B-83F0-C377763D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B364C-4FF2-41F7-8BC2-C96D5DBD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C572F-8015-426F-BC54-8F29AADF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7BA00-1E79-4422-BD02-4647692F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5EC72-C3F1-4CB9-B46A-BDD4AE9A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3EF3C-D700-4824-A272-C1727B9CE7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9B68A3-CC67-4274-938D-2CAACB9B6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71A813-654D-4FFF-8D62-7218361A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47D076-D5FC-4E65-950A-DBE8747F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4BD1-889A-4B30-B3E4-B5E99ACC9B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1AE1-FEFF-4D0C-8D3F-4248979179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AC80-194C-478F-8802-C90194C6E4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9D95-F440-432B-A333-B6654EC845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5813-04C7-4293-A922-FED14EE00D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9DCB-1C82-4B99-82D1-5F102BCE13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2356-63E8-48F1-A5CB-906115D1FC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BE2A-7652-46FA-B4A0-E7BA574D5EE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6CB7-6EC7-4864-8F30-3FE716E09A4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401B-278A-49B0-BA3B-841BF4B9DF0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70A5-C05D-403B-AEA4-C9643323CE0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4780-C0C6-4EEC-A4F8-25F0BD2AC5E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329D-84FF-4723-8407-2B5C8AFB30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72AA-73EE-4E4B-8B76-76FAA10448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5A51-7874-4296-B0E1-9999D2CC9C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B310-6AF3-4721-9EA8-DF1F951787D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94AD-BB17-45D6-8E38-A37068C6DD0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91AA-430D-44AE-A2B8-25F09A9A93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9BB7-F623-40FF-8542-4A55648AA94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45F1-1F4C-473A-B540-BEF17B2D3B0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3D88-E46B-483D-86CF-B5923340F3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C876-612A-4320-B751-2727916E8D6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2724-3A6E-47CE-9368-248621624C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EBE6-3DF8-4EB6-9F3D-0AE65800C66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6.jpeg"/><Relationship Id="rId12" Type="http://schemas.openxmlformats.org/officeDocument/2006/relationships/image" Target="../media/image19.jpeg"/><Relationship Id="rId13" Type="http://schemas.openxmlformats.org/officeDocument/2006/relationships/image" Target="../media/image20.gif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image" Target="../media/image20.gif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4320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解 决 问 题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 txBox="1"/>
          <p:nvPr/>
        </p:nvSpPr>
        <p:spPr>
          <a:xfrm>
            <a:off x="422280" y="90792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小明和七位客人共进午餐，一共需要多少根筷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×2=16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一共需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6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根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183" name="圆角矩形 67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4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185" name="椭圆 69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椭圆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椭圆 71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8" name="椭圆 72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圆角矩形 7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圆角矩形 7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圆角矩形 7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圆角矩形 76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3" name="矩形 14"/>
          <p:cNvSpPr/>
          <p:nvPr/>
        </p:nvSpPr>
        <p:spPr>
          <a:xfrm>
            <a:off x="1547640" y="2395440"/>
            <a:ext cx="4824720" cy="14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5091120" cy="527040"/>
            <a:chOff x="-50760" y="87480"/>
            <a:chExt cx="5091120" cy="527040"/>
          </a:xfrm>
        </p:grpSpPr>
        <p:pic>
          <p:nvPicPr>
            <p:cNvPr id="99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201960" y="87480"/>
              <a:ext cx="48384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680760" cy="274320"/>
              <a:chOff x="-50760" y="182520"/>
              <a:chExt cx="680760" cy="274320"/>
            </a:xfrm>
          </p:grpSpPr>
          <p:sp>
            <p:nvSpPr>
              <p:cNvPr id="1001" name="椭圆 35"/>
              <p:cNvSpPr/>
              <p:nvPr/>
            </p:nvSpPr>
            <p:spPr>
              <a:xfrm rot="16200000">
                <a:off x="229320" y="335880"/>
                <a:ext cx="106200" cy="13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600" y="269640"/>
                <a:ext cx="239400" cy="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37"/>
              <p:cNvSpPr/>
              <p:nvPr/>
            </p:nvSpPr>
            <p:spPr>
              <a:xfrm rot="16200000">
                <a:off x="229320" y="200160"/>
                <a:ext cx="106200" cy="13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390600" y="192240"/>
                <a:ext cx="239400" cy="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280800"/>
                <a:ext cx="602640" cy="6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61360"/>
                <a:ext cx="602640" cy="6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1600"/>
                <a:ext cx="602640" cy="6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602640" cy="68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2"/>
          <p:cNvSpPr/>
          <p:nvPr/>
        </p:nvSpPr>
        <p:spPr>
          <a:xfrm>
            <a:off x="1494720" y="9360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创设情境，复习引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3"/>
          <p:cNvSpPr/>
          <p:nvPr/>
        </p:nvSpPr>
        <p:spPr>
          <a:xfrm>
            <a:off x="1257840" y="2236680"/>
            <a:ext cx="5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5"/>
          <p:cNvSpPr/>
          <p:nvPr/>
        </p:nvSpPr>
        <p:spPr>
          <a:xfrm>
            <a:off x="1182600" y="28796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2000160" y="28796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9"/>
          <p:cNvSpPr/>
          <p:nvPr/>
        </p:nvSpPr>
        <p:spPr>
          <a:xfrm>
            <a:off x="3183120" y="28796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12"/>
          <p:cNvSpPr/>
          <p:nvPr/>
        </p:nvSpPr>
        <p:spPr>
          <a:xfrm>
            <a:off x="5183280" y="28796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15"/>
          <p:cNvSpPr/>
          <p:nvPr/>
        </p:nvSpPr>
        <p:spPr>
          <a:xfrm>
            <a:off x="7255080" y="28796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18"/>
          <p:cNvSpPr/>
          <p:nvPr/>
        </p:nvSpPr>
        <p:spPr>
          <a:xfrm>
            <a:off x="1182600" y="38084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21"/>
          <p:cNvSpPr/>
          <p:nvPr/>
        </p:nvSpPr>
        <p:spPr>
          <a:xfrm>
            <a:off x="3183120" y="38084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24"/>
          <p:cNvSpPr/>
          <p:nvPr/>
        </p:nvSpPr>
        <p:spPr>
          <a:xfrm>
            <a:off x="5183280" y="38084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×3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27"/>
          <p:cNvSpPr/>
          <p:nvPr/>
        </p:nvSpPr>
        <p:spPr>
          <a:xfrm>
            <a:off x="7255080" y="380844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6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51"/>
          <p:cNvSpPr/>
          <p:nvPr/>
        </p:nvSpPr>
        <p:spPr>
          <a:xfrm>
            <a:off x="4071960" y="28796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1"/>
          <p:cNvSpPr/>
          <p:nvPr/>
        </p:nvSpPr>
        <p:spPr>
          <a:xfrm>
            <a:off x="6000840" y="28796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1"/>
          <p:cNvSpPr/>
          <p:nvPr/>
        </p:nvSpPr>
        <p:spPr>
          <a:xfrm>
            <a:off x="8072280" y="28796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51"/>
          <p:cNvSpPr/>
          <p:nvPr/>
        </p:nvSpPr>
        <p:spPr>
          <a:xfrm>
            <a:off x="2000160" y="38084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4071960" y="3808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51"/>
          <p:cNvSpPr/>
          <p:nvPr/>
        </p:nvSpPr>
        <p:spPr>
          <a:xfrm>
            <a:off x="6000840" y="3808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51"/>
          <p:cNvSpPr/>
          <p:nvPr/>
        </p:nvSpPr>
        <p:spPr>
          <a:xfrm>
            <a:off x="8072280" y="38084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2"/>
          <p:cNvGrpSpPr/>
          <p:nvPr/>
        </p:nvGrpSpPr>
        <p:grpSpPr>
          <a:xfrm>
            <a:off x="-50760" y="87480"/>
            <a:ext cx="5265720" cy="527040"/>
            <a:chOff x="-50760" y="87480"/>
            <a:chExt cx="5265720" cy="527040"/>
          </a:xfrm>
        </p:grpSpPr>
        <p:pic>
          <p:nvPicPr>
            <p:cNvPr id="1028" name="圆角矩形 67" descr=""/>
            <p:cNvPicPr/>
            <p:nvPr/>
          </p:nvPicPr>
          <p:blipFill>
            <a:blip r:embed="rId1"/>
            <a:stretch/>
          </p:blipFill>
          <p:spPr>
            <a:xfrm>
              <a:off x="211320" y="87480"/>
              <a:ext cx="5003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组合 4"/>
            <p:cNvGrpSpPr/>
            <p:nvPr/>
          </p:nvGrpSpPr>
          <p:grpSpPr>
            <a:xfrm>
              <a:off x="-50760" y="182520"/>
              <a:ext cx="704520" cy="274680"/>
              <a:chOff x="-50760" y="182520"/>
              <a:chExt cx="704520" cy="274680"/>
            </a:xfrm>
          </p:grpSpPr>
          <p:sp>
            <p:nvSpPr>
              <p:cNvPr id="1030" name="椭圆 69"/>
              <p:cNvSpPr/>
              <p:nvPr/>
            </p:nvSpPr>
            <p:spPr>
              <a:xfrm rot="16200000">
                <a:off x="231840" y="335520"/>
                <a:ext cx="106560" cy="13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412560" y="267120"/>
                <a:ext cx="24120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椭圆 71"/>
              <p:cNvSpPr/>
              <p:nvPr/>
            </p:nvSpPr>
            <p:spPr>
              <a:xfrm rot="16200000">
                <a:off x="231840" y="199080"/>
                <a:ext cx="106560" cy="13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72" descr=""/>
              <p:cNvPicPr/>
              <p:nvPr/>
            </p:nvPicPr>
            <p:blipFill>
              <a:blip r:embed="rId3"/>
              <a:stretch/>
            </p:blipFill>
            <p:spPr>
              <a:xfrm>
                <a:off x="412560" y="192240"/>
                <a:ext cx="241200" cy="7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7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277920"/>
                <a:ext cx="626400" cy="6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7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59200"/>
                <a:ext cx="626400" cy="6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7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1240"/>
                <a:ext cx="626400" cy="6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76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626400" cy="66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38" name="Picture 4" descr="D:\我的文档-桌面-收藏夹\桌面\文具盒.jpg"/>
          <p:cNvPicPr/>
          <p:nvPr/>
        </p:nvPicPr>
        <p:blipFill>
          <a:blip r:embed="rId8"/>
          <a:srcRect l="0" t="9525" r="9525" b="19049"/>
          <a:stretch/>
        </p:blipFill>
        <p:spPr>
          <a:xfrm>
            <a:off x="1714680" y="2736720"/>
            <a:ext cx="1357200" cy="1071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2" descr="D:\我的文档-桌面-收藏夹\桌面\eps5601.jpg"/>
          <p:cNvPicPr/>
          <p:nvPr/>
        </p:nvPicPr>
        <p:blipFill>
          <a:blip r:embed="rId9"/>
          <a:srcRect l="26594" t="2092" r="52956" b="80141"/>
          <a:stretch/>
        </p:blipFill>
        <p:spPr>
          <a:xfrm>
            <a:off x="5214960" y="1233360"/>
            <a:ext cx="1214280" cy="1033560"/>
          </a:xfrm>
          <a:prstGeom prst="rect">
            <a:avLst/>
          </a:prstGeom>
          <a:ln w="0">
            <a:noFill/>
          </a:ln>
        </p:spPr>
      </p:pic>
      <p:grpSp>
        <p:nvGrpSpPr>
          <p:cNvPr id="1040" name="组合 3"/>
          <p:cNvGrpSpPr/>
          <p:nvPr/>
        </p:nvGrpSpPr>
        <p:grpSpPr>
          <a:xfrm>
            <a:off x="1500120" y="1332000"/>
            <a:ext cx="1071720" cy="693720"/>
            <a:chOff x="1500120" y="1332000"/>
            <a:chExt cx="1071720" cy="693720"/>
          </a:xfrm>
        </p:grpSpPr>
        <p:pic>
          <p:nvPicPr>
            <p:cNvPr id="1041" name="Picture 3" descr="D:\我的文档-桌面-收藏夹\桌面\橡皮.jpg"/>
            <p:cNvPicPr/>
            <p:nvPr/>
          </p:nvPicPr>
          <p:blipFill>
            <a:blip r:embed="rId10"/>
            <a:srcRect l="1797" t="6276" r="39702" b="57730"/>
            <a:stretch/>
          </p:blipFill>
          <p:spPr>
            <a:xfrm>
              <a:off x="1500120" y="1386360"/>
              <a:ext cx="1018440" cy="63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矩形 5"/>
            <p:cNvSpPr/>
            <p:nvPr/>
          </p:nvSpPr>
          <p:spPr>
            <a:xfrm>
              <a:off x="2303640" y="1332000"/>
              <a:ext cx="268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3" name="Picture 4" descr="D:\我的文档-桌面-收藏夹\桌面\文具盒.jpg"/>
          <p:cNvPicPr/>
          <p:nvPr/>
        </p:nvPicPr>
        <p:blipFill>
          <a:blip r:embed="rId11"/>
          <a:srcRect l="0" t="9525" r="9525" b="19049"/>
          <a:stretch/>
        </p:blipFill>
        <p:spPr>
          <a:xfrm>
            <a:off x="6929280" y="1214280"/>
            <a:ext cx="1357560" cy="10717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D:\我的文档-桌面-收藏夹\桌面\铅笔.jpg"/>
          <p:cNvPicPr/>
          <p:nvPr/>
        </p:nvPicPr>
        <p:blipFill>
          <a:blip r:embed="rId12"/>
          <a:srcRect l="7300" t="19332" r="1545" b="29095"/>
          <a:stretch/>
        </p:blipFill>
        <p:spPr>
          <a:xfrm>
            <a:off x="2857680" y="1463760"/>
            <a:ext cx="1785600" cy="571320"/>
          </a:xfrm>
          <a:prstGeom prst="rect">
            <a:avLst/>
          </a:prstGeom>
          <a:ln w="0">
            <a:noFill/>
          </a:ln>
        </p:spPr>
      </p:pic>
      <p:sp>
        <p:nvSpPr>
          <p:cNvPr id="1045" name="矩形 8"/>
          <p:cNvSpPr/>
          <p:nvPr/>
        </p:nvSpPr>
        <p:spPr>
          <a:xfrm>
            <a:off x="1567800" y="2214720"/>
            <a:ext cx="62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>
            <a:off x="3447360" y="2214720"/>
            <a:ext cx="62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0"/>
          <p:cNvSpPr/>
          <p:nvPr/>
        </p:nvSpPr>
        <p:spPr>
          <a:xfrm>
            <a:off x="5375880" y="2214720"/>
            <a:ext cx="62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1"/>
          <p:cNvSpPr/>
          <p:nvPr/>
        </p:nvSpPr>
        <p:spPr>
          <a:xfrm>
            <a:off x="7354080" y="2214720"/>
            <a:ext cx="62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2"/>
          <p:cNvSpPr/>
          <p:nvPr/>
        </p:nvSpPr>
        <p:spPr>
          <a:xfrm>
            <a:off x="928800" y="3022560"/>
            <a:ext cx="5214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一共多少钱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圆角矩形 16"/>
          <p:cNvSpPr/>
          <p:nvPr/>
        </p:nvSpPr>
        <p:spPr>
          <a:xfrm>
            <a:off x="428760" y="4219560"/>
            <a:ext cx="2555640" cy="71424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知道了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组合 17"/>
          <p:cNvGrpSpPr/>
          <p:nvPr/>
        </p:nvGrpSpPr>
        <p:grpSpPr>
          <a:xfrm>
            <a:off x="4714920" y="5148360"/>
            <a:ext cx="3397320" cy="990360"/>
            <a:chOff x="4714920" y="5148360"/>
            <a:chExt cx="3397320" cy="990360"/>
          </a:xfrm>
        </p:grpSpPr>
        <p:sp>
          <p:nvSpPr>
            <p:cNvPr id="1052" name="AutoShape 27"/>
            <p:cNvSpPr/>
            <p:nvPr/>
          </p:nvSpPr>
          <p:spPr>
            <a:xfrm>
              <a:off x="4714920" y="5148360"/>
              <a:ext cx="2233440" cy="990360"/>
            </a:xfrm>
            <a:prstGeom prst="wedgeRoundRectCallout">
              <a:avLst>
                <a:gd name="adj1" fmla="val 58083"/>
                <a:gd name="adj2" fmla="val 35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要求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文具盒一共多少钱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3" name="Picture 4" descr="E:\2017秋上·黄倩\其他\人\蜜蜂.gif蜜蜂"/>
            <p:cNvPicPr/>
            <p:nvPr/>
          </p:nvPicPr>
          <p:blipFill>
            <a:blip r:embed="rId13"/>
            <a:stretch/>
          </p:blipFill>
          <p:spPr>
            <a:xfrm>
              <a:off x="7260840" y="5148360"/>
              <a:ext cx="851400" cy="93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4" name="组合 20"/>
          <p:cNvGrpSpPr/>
          <p:nvPr/>
        </p:nvGrpSpPr>
        <p:grpSpPr>
          <a:xfrm>
            <a:off x="1208160" y="5219640"/>
            <a:ext cx="3151080" cy="1071720"/>
            <a:chOff x="1208160" y="5219640"/>
            <a:chExt cx="3151080" cy="1071720"/>
          </a:xfrm>
        </p:grpSpPr>
        <p:sp>
          <p:nvSpPr>
            <p:cNvPr id="1055" name="AutoShape 27"/>
            <p:cNvSpPr/>
            <p:nvPr/>
          </p:nvSpPr>
          <p:spPr>
            <a:xfrm>
              <a:off x="2105280" y="5219640"/>
              <a:ext cx="2253960" cy="929160"/>
            </a:xfrm>
            <a:prstGeom prst="wedgeRoundRectCallout">
              <a:avLst>
                <a:gd name="adj1" fmla="val -57319"/>
                <a:gd name="adj2" fmla="val 4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知道了一些文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具的价钱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6" name="Picture 2" descr="E:\2017秋上·黄倩\其他\人\海豚.jpg海豚"/>
            <p:cNvPicPr/>
            <p:nvPr/>
          </p:nvPicPr>
          <p:blipFill>
            <a:blip r:embed="rId14"/>
            <a:stretch/>
          </p:blipFill>
          <p:spPr>
            <a:xfrm>
              <a:off x="1208160" y="5366880"/>
              <a:ext cx="632880" cy="92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7" name="矩形 23"/>
          <p:cNvSpPr/>
          <p:nvPr/>
        </p:nvSpPr>
        <p:spPr>
          <a:xfrm>
            <a:off x="2664360" y="936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提出问题，解决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八边形 7"/>
          <p:cNvSpPr/>
          <p:nvPr/>
        </p:nvSpPr>
        <p:spPr>
          <a:xfrm>
            <a:off x="530280" y="100332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圆角矩形 1"/>
          <p:cNvSpPr/>
          <p:nvPr/>
        </p:nvSpPr>
        <p:spPr>
          <a:xfrm>
            <a:off x="285840" y="928800"/>
            <a:ext cx="2071440" cy="71424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怎样解答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4" descr="D:\我的文档-桌面-收藏夹\桌面\文具盒.jpg"/>
          <p:cNvPicPr/>
          <p:nvPr/>
        </p:nvPicPr>
        <p:blipFill>
          <a:blip r:embed="rId1"/>
          <a:srcRect l="0" t="9525" r="9525" b="19049"/>
          <a:stretch/>
        </p:blipFill>
        <p:spPr>
          <a:xfrm>
            <a:off x="4143240" y="1593720"/>
            <a:ext cx="1357560" cy="10717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D:\我的文档-桌面-收藏夹\桌面\文具盒.jpg"/>
          <p:cNvPicPr/>
          <p:nvPr/>
        </p:nvPicPr>
        <p:blipFill>
          <a:blip r:embed="rId2"/>
          <a:srcRect l="0" t="9525" r="9525" b="19049"/>
          <a:stretch/>
        </p:blipFill>
        <p:spPr>
          <a:xfrm>
            <a:off x="5857920" y="1593720"/>
            <a:ext cx="1357200" cy="10717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D:\我的文档-桌面-收藏夹\桌面\文具盒.jpg"/>
          <p:cNvPicPr/>
          <p:nvPr/>
        </p:nvPicPr>
        <p:blipFill>
          <a:blip r:embed="rId3"/>
          <a:srcRect l="0" t="9525" r="9525" b="19049"/>
          <a:stretch/>
        </p:blipFill>
        <p:spPr>
          <a:xfrm>
            <a:off x="7500960" y="1593720"/>
            <a:ext cx="1357200" cy="1071720"/>
          </a:xfrm>
          <a:prstGeom prst="rect">
            <a:avLst/>
          </a:prstGeom>
          <a:ln w="0">
            <a:noFill/>
          </a:ln>
        </p:spPr>
      </p:pic>
      <p:sp>
        <p:nvSpPr>
          <p:cNvPr id="1063" name="矩形 5"/>
          <p:cNvSpPr/>
          <p:nvPr/>
        </p:nvSpPr>
        <p:spPr>
          <a:xfrm>
            <a:off x="4568040" y="2593800"/>
            <a:ext cx="62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6"/>
          <p:cNvSpPr/>
          <p:nvPr/>
        </p:nvSpPr>
        <p:spPr>
          <a:xfrm>
            <a:off x="6304680" y="2593800"/>
            <a:ext cx="62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7"/>
          <p:cNvSpPr/>
          <p:nvPr/>
        </p:nvSpPr>
        <p:spPr>
          <a:xfrm>
            <a:off x="7947720" y="2593800"/>
            <a:ext cx="62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左大括号 8"/>
          <p:cNvSpPr/>
          <p:nvPr/>
        </p:nvSpPr>
        <p:spPr>
          <a:xfrm rot="16200000">
            <a:off x="6357960" y="1022040"/>
            <a:ext cx="500040" cy="45003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500360"/>
              <a:gd name="textAreaBottom" fmla="*/ 4487400 h 45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199"/>
                </a:cubicBezTo>
                <a:lnTo>
                  <a:pt x="10800" y="10601"/>
                </a:lnTo>
                <a:cubicBezTo>
                  <a:pt x="10800" y="10701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0999"/>
                </a:cubicBezTo>
                <a:lnTo>
                  <a:pt x="10800" y="21401"/>
                </a:lnTo>
                <a:cubicBezTo>
                  <a:pt x="10800" y="21501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9"/>
          <p:cNvSpPr/>
          <p:nvPr/>
        </p:nvSpPr>
        <p:spPr>
          <a:xfrm>
            <a:off x="6337440" y="352260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共？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10"/>
          <p:cNvGrpSpPr/>
          <p:nvPr/>
        </p:nvGrpSpPr>
        <p:grpSpPr>
          <a:xfrm>
            <a:off x="453960" y="2236680"/>
            <a:ext cx="3451320" cy="995400"/>
            <a:chOff x="453960" y="2236680"/>
            <a:chExt cx="3451320" cy="995400"/>
          </a:xfrm>
        </p:grpSpPr>
        <p:sp>
          <p:nvSpPr>
            <p:cNvPr id="1069" name="AutoShape 27"/>
            <p:cNvSpPr/>
            <p:nvPr/>
          </p:nvSpPr>
          <p:spPr>
            <a:xfrm>
              <a:off x="1319400" y="2236680"/>
              <a:ext cx="2585880" cy="928800"/>
            </a:xfrm>
            <a:prstGeom prst="wedgeRoundRectCallout">
              <a:avLst>
                <a:gd name="adj1" fmla="val -57319"/>
                <a:gd name="adj2" fmla="val 4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解决这个问题，需要哪些信息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0" name="Picture 2" descr="E:\2017秋上·黄倩\其他\人\海豚.jpg海豚"/>
            <p:cNvPicPr/>
            <p:nvPr/>
          </p:nvPicPr>
          <p:blipFill>
            <a:blip r:embed="rId4"/>
            <a:stretch/>
          </p:blipFill>
          <p:spPr>
            <a:xfrm>
              <a:off x="453960" y="2308320"/>
              <a:ext cx="654480" cy="9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1" name="组合 13"/>
          <p:cNvGrpSpPr/>
          <p:nvPr/>
        </p:nvGrpSpPr>
        <p:grpSpPr>
          <a:xfrm>
            <a:off x="5110200" y="4094280"/>
            <a:ext cx="3755880" cy="939600"/>
            <a:chOff x="5110200" y="4094280"/>
            <a:chExt cx="3755880" cy="939600"/>
          </a:xfrm>
        </p:grpSpPr>
        <p:sp>
          <p:nvSpPr>
            <p:cNvPr id="1072" name="AutoShape 27"/>
            <p:cNvSpPr/>
            <p:nvPr/>
          </p:nvSpPr>
          <p:spPr>
            <a:xfrm>
              <a:off x="5110200" y="4094280"/>
              <a:ext cx="2591280" cy="858960"/>
            </a:xfrm>
            <a:prstGeom prst="wedgeRoundRectCallout">
              <a:avLst>
                <a:gd name="adj1" fmla="val 58083"/>
                <a:gd name="adj2" fmla="val 35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可以用乘法计算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3" name="Picture 4" descr="E:\2017秋上·黄倩\其他\人\蜜蜂.gif蜜蜂"/>
            <p:cNvPicPr/>
            <p:nvPr/>
          </p:nvPicPr>
          <p:blipFill>
            <a:blip r:embed="rId5"/>
            <a:stretch/>
          </p:blipFill>
          <p:spPr>
            <a:xfrm>
              <a:off x="8013240" y="4094280"/>
              <a:ext cx="852840" cy="93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4" name="组合 16"/>
          <p:cNvGrpSpPr/>
          <p:nvPr/>
        </p:nvGrpSpPr>
        <p:grpSpPr>
          <a:xfrm>
            <a:off x="801720" y="3736800"/>
            <a:ext cx="3270240" cy="1287720"/>
            <a:chOff x="801720" y="3736800"/>
            <a:chExt cx="3270240" cy="1287720"/>
          </a:xfrm>
        </p:grpSpPr>
        <p:sp>
          <p:nvSpPr>
            <p:cNvPr id="1075" name="AutoShape 27"/>
            <p:cNvSpPr/>
            <p:nvPr/>
          </p:nvSpPr>
          <p:spPr>
            <a:xfrm>
              <a:off x="1747800" y="3736800"/>
              <a:ext cx="2324160" cy="1287720"/>
            </a:xfrm>
            <a:prstGeom prst="wedgeRoundRectCallout">
              <a:avLst>
                <a:gd name="adj1" fmla="val -57319"/>
                <a:gd name="adj2" fmla="val 4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文具盒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文具盒就是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6" name="Picture 2" descr="E:\2017秋上·黄倩\其他\人\海豚.jpg海豚"/>
            <p:cNvPicPr/>
            <p:nvPr/>
          </p:nvPicPr>
          <p:blipFill>
            <a:blip r:embed="rId6"/>
            <a:stretch/>
          </p:blipFill>
          <p:spPr>
            <a:xfrm>
              <a:off x="801720" y="4099320"/>
              <a:ext cx="631080" cy="92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矩形 19"/>
          <p:cNvSpPr/>
          <p:nvPr/>
        </p:nvSpPr>
        <p:spPr>
          <a:xfrm>
            <a:off x="5286240" y="509580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×3=2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元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79" name="圆角矩形 67" descr=""/>
            <p:cNvPicPr/>
            <p:nvPr/>
          </p:nvPicPr>
          <p:blipFill>
            <a:blip r:embed="rId7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81" name="椭圆 69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2" name="椭圆 70" descr=""/>
              <p:cNvPicPr/>
              <p:nvPr/>
            </p:nvPicPr>
            <p:blipFill>
              <a:blip r:embed="rId8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椭圆 71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72" descr=""/>
              <p:cNvPicPr/>
              <p:nvPr/>
            </p:nvPicPr>
            <p:blipFill>
              <a:blip r:embed="rId9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73" descr=""/>
              <p:cNvPicPr/>
              <p:nvPr/>
            </p:nvPicPr>
            <p:blipFill>
              <a:blip r:embed="rId10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74" descr=""/>
              <p:cNvPicPr/>
              <p:nvPr/>
            </p:nvPicPr>
            <p:blipFill>
              <a:blip r:embed="rId11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75" descr=""/>
              <p:cNvPicPr/>
              <p:nvPr/>
            </p:nvPicPr>
            <p:blipFill>
              <a:blip r:embed="rId12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76" descr=""/>
              <p:cNvPicPr/>
              <p:nvPr/>
            </p:nvPicPr>
            <p:blipFill>
              <a:blip r:embed="rId13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圆角矩形 1"/>
          <p:cNvSpPr/>
          <p:nvPr/>
        </p:nvSpPr>
        <p:spPr>
          <a:xfrm>
            <a:off x="857160" y="787320"/>
            <a:ext cx="2428920" cy="71460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解答正确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2"/>
          <p:cNvSpPr/>
          <p:nvPr/>
        </p:nvSpPr>
        <p:spPr>
          <a:xfrm>
            <a:off x="1500120" y="1785960"/>
            <a:ext cx="33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答：一共       元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3"/>
          <p:cNvSpPr/>
          <p:nvPr/>
        </p:nvSpPr>
        <p:spPr>
          <a:xfrm>
            <a:off x="3286080" y="1785960"/>
            <a:ext cx="92880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4"/>
          <p:cNvSpPr/>
          <p:nvPr/>
        </p:nvSpPr>
        <p:spPr>
          <a:xfrm>
            <a:off x="1500120" y="2786040"/>
            <a:ext cx="571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想一想：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块      ，一共多少钱？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"/>
          <p:cNvGrpSpPr/>
          <p:nvPr/>
        </p:nvGrpSpPr>
        <p:grpSpPr>
          <a:xfrm>
            <a:off x="3857760" y="2808360"/>
            <a:ext cx="571320" cy="406440"/>
            <a:chOff x="3857760" y="2808360"/>
            <a:chExt cx="571320" cy="406440"/>
          </a:xfrm>
        </p:grpSpPr>
        <p:pic>
          <p:nvPicPr>
            <p:cNvPr id="1094" name="Picture 3" descr="D:\我的文档-桌面-收藏夹\桌面\橡皮.jpg"/>
            <p:cNvPicPr/>
            <p:nvPr/>
          </p:nvPicPr>
          <p:blipFill>
            <a:blip r:embed="rId1"/>
            <a:srcRect l="1786" t="6272" r="39728" b="57762"/>
            <a:stretch/>
          </p:blipFill>
          <p:spPr>
            <a:xfrm>
              <a:off x="3857760" y="2840400"/>
              <a:ext cx="542880" cy="3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矩形 7"/>
            <p:cNvSpPr/>
            <p:nvPr/>
          </p:nvSpPr>
          <p:spPr>
            <a:xfrm>
              <a:off x="4286520" y="2808360"/>
              <a:ext cx="142560" cy="22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矩形 8"/>
          <p:cNvSpPr/>
          <p:nvPr/>
        </p:nvSpPr>
        <p:spPr>
          <a:xfrm>
            <a:off x="2857680" y="3571920"/>
            <a:ext cx="571320" cy="57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9"/>
          <p:cNvSpPr/>
          <p:nvPr/>
        </p:nvSpPr>
        <p:spPr>
          <a:xfrm>
            <a:off x="3429000" y="3666960"/>
            <a:ext cx="568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     =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矩形 10"/>
          <p:cNvSpPr/>
          <p:nvPr/>
        </p:nvSpPr>
        <p:spPr>
          <a:xfrm>
            <a:off x="3929040" y="3571920"/>
            <a:ext cx="571680" cy="57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矩形 11"/>
          <p:cNvSpPr/>
          <p:nvPr/>
        </p:nvSpPr>
        <p:spPr>
          <a:xfrm>
            <a:off x="4857840" y="3571920"/>
            <a:ext cx="928440" cy="57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矩形 12"/>
          <p:cNvSpPr/>
          <p:nvPr/>
        </p:nvSpPr>
        <p:spPr>
          <a:xfrm>
            <a:off x="2714760" y="4378320"/>
            <a:ext cx="33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答：一共      元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13"/>
          <p:cNvSpPr/>
          <p:nvPr/>
        </p:nvSpPr>
        <p:spPr>
          <a:xfrm>
            <a:off x="4429080" y="4354560"/>
            <a:ext cx="857160" cy="57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14"/>
          <p:cNvSpPr/>
          <p:nvPr/>
        </p:nvSpPr>
        <p:spPr>
          <a:xfrm>
            <a:off x="1500120" y="5238720"/>
            <a:ext cx="657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你还能提出其他用乘法解决的问题并解答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51"/>
          <p:cNvSpPr/>
          <p:nvPr/>
        </p:nvSpPr>
        <p:spPr>
          <a:xfrm>
            <a:off x="3429000" y="17366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1"/>
          <p:cNvSpPr/>
          <p:nvPr/>
        </p:nvSpPr>
        <p:spPr>
          <a:xfrm>
            <a:off x="3000240" y="35719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51"/>
          <p:cNvSpPr/>
          <p:nvPr/>
        </p:nvSpPr>
        <p:spPr>
          <a:xfrm>
            <a:off x="4000680" y="35719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1"/>
          <p:cNvSpPr/>
          <p:nvPr/>
        </p:nvSpPr>
        <p:spPr>
          <a:xfrm>
            <a:off x="5072040" y="35719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51"/>
          <p:cNvSpPr/>
          <p:nvPr/>
        </p:nvSpPr>
        <p:spPr>
          <a:xfrm>
            <a:off x="4572000" y="43578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51"/>
          <p:cNvSpPr/>
          <p:nvPr/>
        </p:nvSpPr>
        <p:spPr>
          <a:xfrm>
            <a:off x="6357960" y="36432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110" name="圆角矩形 67" descr=""/>
            <p:cNvPicPr/>
            <p:nvPr/>
          </p:nvPicPr>
          <p:blipFill>
            <a:blip r:embed="rId2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1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112" name="椭圆 69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3" name="椭圆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椭圆 71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5" name="椭圆 72" descr=""/>
              <p:cNvPicPr/>
              <p:nvPr/>
            </p:nvPicPr>
            <p:blipFill>
              <a:blip r:embed="rId4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73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74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75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76" descr=""/>
              <p:cNvPicPr/>
              <p:nvPr/>
            </p:nvPicPr>
            <p:blipFill>
              <a:blip r:embed="rId8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2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1" name="Rectangle 64"/>
          <p:cNvSpPr/>
          <p:nvPr/>
        </p:nvSpPr>
        <p:spPr>
          <a:xfrm>
            <a:off x="293760" y="76320"/>
            <a:ext cx="2946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32"/>
          <p:cNvSpPr/>
          <p:nvPr/>
        </p:nvSpPr>
        <p:spPr>
          <a:xfrm>
            <a:off x="349200" y="1220760"/>
            <a:ext cx="844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解决购物所需的钱数时，要根据单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数量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总价来计算。计算时，要想两个乘数的口诀是哪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422280" y="90792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写出得数，看谁算得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x8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7x6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5x6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8x4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8x2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x8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5x7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4x6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8x3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7x8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组合 2"/>
          <p:cNvGrpSpPr/>
          <p:nvPr/>
        </p:nvGrpSpPr>
        <p:grpSpPr>
          <a:xfrm>
            <a:off x="-50760" y="87480"/>
            <a:ext cx="3014640" cy="527040"/>
            <a:chOff x="-50760" y="87480"/>
            <a:chExt cx="3014640" cy="527040"/>
          </a:xfrm>
        </p:grpSpPr>
        <p:pic>
          <p:nvPicPr>
            <p:cNvPr id="1135" name="圆角矩形 67" descr=""/>
            <p:cNvPicPr/>
            <p:nvPr/>
          </p:nvPicPr>
          <p:blipFill>
            <a:blip r:embed="rId1"/>
            <a:stretch/>
          </p:blipFill>
          <p:spPr>
            <a:xfrm>
              <a:off x="87120" y="87480"/>
              <a:ext cx="2876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组合 4"/>
            <p:cNvGrpSpPr/>
            <p:nvPr/>
          </p:nvGrpSpPr>
          <p:grpSpPr>
            <a:xfrm>
              <a:off x="-50760" y="182520"/>
              <a:ext cx="398880" cy="274680"/>
              <a:chOff x="-50760" y="182520"/>
              <a:chExt cx="398880" cy="274680"/>
            </a:xfrm>
          </p:grpSpPr>
          <p:sp>
            <p:nvSpPr>
              <p:cNvPr id="1137" name="椭圆 69"/>
              <p:cNvSpPr/>
              <p:nvPr/>
            </p:nvSpPr>
            <p:spPr>
              <a:xfrm rot="16200000">
                <a:off x="186120" y="349560"/>
                <a:ext cx="97920" cy="117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8" name="椭圆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141480" y="318600"/>
                <a:ext cx="206640" cy="12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9" name="椭圆 71"/>
              <p:cNvSpPr/>
              <p:nvPr/>
            </p:nvSpPr>
            <p:spPr>
              <a:xfrm rot="16200000">
                <a:off x="186120" y="223920"/>
                <a:ext cx="97920" cy="117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0" name="椭圆 72" descr=""/>
              <p:cNvPicPr/>
              <p:nvPr/>
            </p:nvPicPr>
            <p:blipFill>
              <a:blip r:embed="rId3"/>
              <a:stretch/>
            </p:blipFill>
            <p:spPr>
              <a:xfrm>
                <a:off x="141480" y="198000"/>
                <a:ext cx="206640" cy="12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7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5880"/>
                <a:ext cx="32652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2" name="圆角矩形 7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5640"/>
                <a:ext cx="32652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3" name="圆角矩形 7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2400"/>
                <a:ext cx="32652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76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26520" cy="10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5" name="矩形 14"/>
          <p:cNvSpPr/>
          <p:nvPr/>
        </p:nvSpPr>
        <p:spPr>
          <a:xfrm>
            <a:off x="1351080" y="1946160"/>
            <a:ext cx="46836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1"/>
          <p:cNvSpPr/>
          <p:nvPr/>
        </p:nvSpPr>
        <p:spPr>
          <a:xfrm>
            <a:off x="2919240" y="1881360"/>
            <a:ext cx="5112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2"/>
          <p:cNvSpPr/>
          <p:nvPr/>
        </p:nvSpPr>
        <p:spPr>
          <a:xfrm>
            <a:off x="4579920" y="1881360"/>
            <a:ext cx="5112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矩形 3"/>
          <p:cNvSpPr/>
          <p:nvPr/>
        </p:nvSpPr>
        <p:spPr>
          <a:xfrm>
            <a:off x="6272280" y="1906560"/>
            <a:ext cx="5112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矩形 4"/>
          <p:cNvSpPr/>
          <p:nvPr/>
        </p:nvSpPr>
        <p:spPr>
          <a:xfrm>
            <a:off x="7912080" y="1881360"/>
            <a:ext cx="5112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矩形 5"/>
          <p:cNvSpPr/>
          <p:nvPr/>
        </p:nvSpPr>
        <p:spPr>
          <a:xfrm>
            <a:off x="1308240" y="2889360"/>
            <a:ext cx="5112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矩形 6"/>
          <p:cNvSpPr/>
          <p:nvPr/>
        </p:nvSpPr>
        <p:spPr>
          <a:xfrm>
            <a:off x="3046320" y="2854440"/>
            <a:ext cx="5112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7"/>
          <p:cNvSpPr/>
          <p:nvPr/>
        </p:nvSpPr>
        <p:spPr>
          <a:xfrm>
            <a:off x="4727520" y="2870280"/>
            <a:ext cx="5112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8"/>
          <p:cNvSpPr/>
          <p:nvPr/>
        </p:nvSpPr>
        <p:spPr>
          <a:xfrm>
            <a:off x="6483240" y="2882880"/>
            <a:ext cx="5112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9"/>
          <p:cNvSpPr/>
          <p:nvPr/>
        </p:nvSpPr>
        <p:spPr>
          <a:xfrm>
            <a:off x="8029440" y="2930400"/>
            <a:ext cx="5112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422280" y="90792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每辆车限坐乘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，现在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辆车能坐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×5=40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现在有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辆车能坐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0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157" name="圆角矩形 67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159" name="椭圆 69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椭圆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1" name="椭圆 71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2" name="椭圆 72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圆角矩形 7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4" name="圆角矩形 7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圆角矩形 7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圆角矩形 76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7" name="矩形 14"/>
          <p:cNvSpPr/>
          <p:nvPr/>
        </p:nvSpPr>
        <p:spPr>
          <a:xfrm>
            <a:off x="1955880" y="2500200"/>
            <a:ext cx="494028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 txBox="1"/>
          <p:nvPr/>
        </p:nvSpPr>
        <p:spPr>
          <a:xfrm>
            <a:off x="422280" y="90792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商场里有一种袜子每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钱，妈妈想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双这样的袜子，她需要带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×8=24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答：她需要带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4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170" name="圆角矩形 67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1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172" name="椭圆 69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椭圆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4" name="椭圆 71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5" name="椭圆 72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6" name="圆角矩形 7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7" name="圆角矩形 7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8" name="圆角矩形 7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76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0" name="矩形 14"/>
          <p:cNvSpPr/>
          <p:nvPr/>
        </p:nvSpPr>
        <p:spPr>
          <a:xfrm>
            <a:off x="2071800" y="2575080"/>
            <a:ext cx="4119480" cy="11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40:08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